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30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ACD95-D680-4E6C-9EA0-A3A6DC36121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27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2080"/>
            <a:ext cx="29530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DEFB1-D504-4CB4-AA3F-06D4799C0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60640" y="9442440"/>
            <a:ext cx="2953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9266E-0145-416F-8096-017945E44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DA8-FB81-40E7-83FF-BB0845B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69C-487B-496A-ADC0-E18F269F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120-EEEB-4644-8EB9-5943B170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5B1-F7C2-4349-81EB-74FDEA95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24D-533E-48EE-BF26-02A1DE1A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6DA-5089-498B-B09F-0F88A6EE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DC4-6D01-4AE1-B434-13A3BC7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405-93DA-491B-9267-65B24D92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422-2D30-4CD5-B277-81F92D6F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C33-5DE3-4412-9EE3-4906FC5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C4C-F6A1-4F7E-B066-946A4DF8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109-5E4D-4CC6-B851-A68B334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833D-8FAC-4124-B8D0-35007609154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B01B-D827-45E9-832B-533E68F7B3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hyperlink" Target="http://www.nca.kz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380880" y="304920"/>
            <a:ext cx="8534520" cy="6324480"/>
            <a:chOff x="380880" y="304920"/>
            <a:chExt cx="8534520" cy="6324480"/>
          </a:xfrm>
        </p:grpSpPr>
        <p:graphicFrame>
          <p:nvGraphicFramePr>
            <p:cNvPr id="50" name="Object 3"/>
            <p:cNvGraphicFramePr/>
            <p:nvPr/>
          </p:nvGraphicFramePr>
          <p:xfrm>
            <a:off x="533520" y="380880"/>
            <a:ext cx="91440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80880"/>
                      <a:ext cx="91440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Line 4"/>
            <p:cNvSpPr/>
            <p:nvPr/>
          </p:nvSpPr>
          <p:spPr>
            <a:xfrm>
              <a:off x="380880" y="304920"/>
              <a:ext cx="37339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1295280" y="304920"/>
              <a:ext cx="32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6"/>
            <p:cNvSpPr/>
            <p:nvPr/>
          </p:nvSpPr>
          <p:spPr>
            <a:xfrm>
              <a:off x="5181480" y="6629400"/>
              <a:ext cx="37339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38088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891540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9"/>
          <p:cNvSpPr/>
          <p:nvPr/>
        </p:nvSpPr>
        <p:spPr>
          <a:xfrm>
            <a:off x="457200" y="1295280"/>
            <a:ext cx="84582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оварищество с ограниченной 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Национальный центр аккреди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омитета по техническому регулированию и метрологии Министерства индустрии и торговли                            Республики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449568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. Астан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1600200" y="457200"/>
            <a:ext cx="61722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РУКТУРА 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ционального центра аккред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148" name="Object 3"/>
            <p:cNvGraphicFramePr/>
            <p:nvPr/>
          </p:nvGraphicFramePr>
          <p:xfrm>
            <a:off x="457200" y="380880"/>
            <a:ext cx="91404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91404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Line 4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41"/>
          <p:cNvSpPr/>
          <p:nvPr/>
        </p:nvSpPr>
        <p:spPr>
          <a:xfrm>
            <a:off x="380880" y="63244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6 сотруд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2" descr="Структура ОА - 01"/>
          <p:cNvPicPr/>
          <p:nvPr/>
        </p:nvPicPr>
        <p:blipFill>
          <a:blip r:embed="rId3"/>
          <a:stretch/>
        </p:blipFill>
        <p:spPr>
          <a:xfrm>
            <a:off x="304920" y="1379520"/>
            <a:ext cx="81788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159" name="Object 3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8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"/>
          <p:cNvSpPr/>
          <p:nvPr/>
        </p:nvSpPr>
        <p:spPr>
          <a:xfrm>
            <a:off x="1143000" y="9144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правления деятельности </a:t>
            </a:r>
            <a:r>
              <a:rPr b="0" lang="kk-KZ" sz="2400" spc="-1" strike="noStrike">
                <a:solidFill>
                  <a:srgbClr val="000066"/>
                </a:solidFill>
                <a:latin typeface="Tahoma"/>
              </a:rPr>
              <a:t>по аккред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2514600" y="1981080"/>
            <a:ext cx="41148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циональный центр аккреди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80880" y="2944800"/>
            <a:ext cx="19814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кредитация органов по подтверждению соответ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514600" y="2944800"/>
            <a:ext cx="205740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кредитация испытательных лабораторий ИСО/МЭК 17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724280" y="2944800"/>
            <a:ext cx="205740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кредитация поверочных  лабораторий  ИСО/МЭК 17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934320" y="2944800"/>
            <a:ext cx="205740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кредитация калибровочных лабораторий ИСО/МЭК 170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80880" y="4952880"/>
            <a:ext cx="17528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ПС продукции (ИСО/МЭК 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2590920" y="4952880"/>
            <a:ext cx="251928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ПС систем менеджмента (ИСО/МЭК 170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410080" y="4952880"/>
            <a:ext cx="22100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ПС       персонала (ИСО/МЭК 17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1066680" y="4648320"/>
            <a:ext cx="5334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066680" y="411480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809880" y="4648320"/>
            <a:ext cx="0" cy="3045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6400800" y="4648320"/>
            <a:ext cx="0" cy="3045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1066680" y="2666880"/>
            <a:ext cx="70106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1066680" y="266688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581280" y="266688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7"/>
          <p:cNvSpPr/>
          <p:nvPr/>
        </p:nvSpPr>
        <p:spPr>
          <a:xfrm>
            <a:off x="5715000" y="266688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1297080"/>
          <a:ext cx="87850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7080"/>
                    <a:ext cx="87850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2"/>
          <p:cNvSpPr/>
          <p:nvPr/>
        </p:nvSpPr>
        <p:spPr>
          <a:xfrm>
            <a:off x="1676520" y="68580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естр субъектов аккредитац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189" name="Object 66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6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Line 67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68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1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11"/>
          <p:cNvSpPr/>
          <p:nvPr/>
        </p:nvSpPr>
        <p:spPr>
          <a:xfrm>
            <a:off x="2286000" y="60786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чень субъектов аккредитации на сайте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.nca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"/>
          <p:cNvGrpSpPr/>
          <p:nvPr/>
        </p:nvGrpSpPr>
        <p:grpSpPr>
          <a:xfrm>
            <a:off x="380880" y="304920"/>
            <a:ext cx="8534520" cy="6324480"/>
            <a:chOff x="380880" y="304920"/>
            <a:chExt cx="8534520" cy="632448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533520" y="380880"/>
            <a:ext cx="91440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80880"/>
                      <a:ext cx="91440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Line 4"/>
            <p:cNvSpPr/>
            <p:nvPr/>
          </p:nvSpPr>
          <p:spPr>
            <a:xfrm>
              <a:off x="380880" y="304920"/>
              <a:ext cx="37339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1295280" y="304920"/>
              <a:ext cx="32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5181480" y="6629400"/>
              <a:ext cx="37339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38088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891540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9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ниторинг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а инспекционных проверок субъектов                        за 9 месяцев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447920" y="2133720"/>
          <a:ext cx="6280200" cy="3733560"/>
        </p:xfrm>
        <a:graphic>
          <a:graphicData uri="http://schemas.openxmlformats.org/drawingml/2006/table">
            <a:tbl>
              <a:tblPr/>
              <a:tblGrid>
                <a:gridCol w="1218960"/>
                <a:gridCol w="838440"/>
                <a:gridCol w="1055520"/>
                <a:gridCol w="1055880"/>
                <a:gridCol w="1055520"/>
                <a:gridCol w="105588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Провед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Отзыв/ переаккреди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е 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% выполнения по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75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ОП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7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П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8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8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МА М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7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209" name="Object 3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Line 8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9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1143000" y="9144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Организация и проведение межлабораторных сравнительных испытаний для испытательных лаборат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2484360" y="2133720"/>
            <a:ext cx="411480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99"/>
                </a:solidFill>
                <a:latin typeface="Arial"/>
              </a:rPr>
              <a:t>Провайд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50920" y="3429000"/>
            <a:ext cx="2305080" cy="90324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</a:rPr>
              <a:t>ТОО ЦЛО «Экогидроаналит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127 участников</a:t>
            </a:r>
            <a:r>
              <a:rPr b="0" lang="ru-RU" sz="1000" spc="-1" strike="noStrike">
                <a:solidFill>
                  <a:srgbClr val="c0504d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2627280" y="3429000"/>
            <a:ext cx="2089080" cy="82404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</a:rPr>
              <a:t>ТОО «Центргеолана-лит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»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33 учас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4859280" y="3429000"/>
            <a:ext cx="2160720" cy="119448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</a:rPr>
              <a:t>ТОО «Агростанда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</a:rPr>
              <a:t>XXI век»       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21 учас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162920" y="3429000"/>
            <a:ext cx="1798560" cy="106740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</a:rPr>
              <a:t>ТОО «Kazgrain inspection»              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32 учас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042920" y="3141720"/>
            <a:ext cx="69850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1042920" y="314172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3564000" y="314172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5724360" y="314172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8028000" y="3141720"/>
            <a:ext cx="0" cy="21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500720" y="2565360"/>
            <a:ext cx="0" cy="576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971640" y="486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914400" y="4419720"/>
            <a:ext cx="0" cy="2286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5257800" y="4800600"/>
            <a:ext cx="1295280" cy="95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Зерно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086600" y="4653000"/>
            <a:ext cx="1589040" cy="95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Мука пшен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2771640" y="4653000"/>
            <a:ext cx="1944720" cy="106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Руда (песчаник меднистый, руда скарновая золот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1619280" y="4653000"/>
            <a:ext cx="1008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ру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80880" y="4648320"/>
            <a:ext cx="1079640" cy="95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Водные объ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8"/>
          <p:cNvSpPr/>
          <p:nvPr/>
        </p:nvSpPr>
        <p:spPr>
          <a:xfrm>
            <a:off x="2057400" y="4419720"/>
            <a:ext cx="0" cy="2286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9"/>
          <p:cNvSpPr/>
          <p:nvPr/>
        </p:nvSpPr>
        <p:spPr>
          <a:xfrm>
            <a:off x="3657600" y="4267080"/>
            <a:ext cx="0" cy="38124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0"/>
          <p:cNvSpPr/>
          <p:nvPr/>
        </p:nvSpPr>
        <p:spPr>
          <a:xfrm>
            <a:off x="5867280" y="4648320"/>
            <a:ext cx="0" cy="15228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1"/>
          <p:cNvSpPr/>
          <p:nvPr/>
        </p:nvSpPr>
        <p:spPr>
          <a:xfrm>
            <a:off x="8001000" y="4267080"/>
            <a:ext cx="0" cy="38124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2590920" y="2743200"/>
            <a:ext cx="38098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ДГП «Казахстанская поверочная служб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743200" y="3886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змерения расхода и количества жидкостей и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68580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и проведение межлабораторных сли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0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243" name="Object 2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Line 12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838080" y="5638680"/>
            <a:ext cx="7620120" cy="910800"/>
          </a:xfrm>
          <a:prstGeom prst="rect">
            <a:avLst/>
          </a:prstGeom>
          <a:solidFill>
            <a:srgbClr val="cc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39 участников – лабораторий (ПЛ и К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8"/>
          <p:cNvSpPr/>
          <p:nvPr/>
        </p:nvSpPr>
        <p:spPr>
          <a:xfrm>
            <a:off x="304920" y="1828800"/>
            <a:ext cx="8153280" cy="487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2286000" y="1676520"/>
            <a:ext cx="4495680" cy="1050120"/>
          </a:xfrm>
          <a:prstGeom prst="rect">
            <a:avLst/>
          </a:prstGeom>
          <a:solidFill>
            <a:srgbClr val="dbeef4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Национальный центр аккреди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змерения д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5867280" y="39625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плофизические и температурные 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4038480" y="2514600"/>
            <a:ext cx="0" cy="22860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 flipV="1">
            <a:off x="4724280" y="2514240"/>
            <a:ext cx="0" cy="22860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 flipH="1">
            <a:off x="1523880" y="3505320"/>
            <a:ext cx="2286000" cy="30456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>
            <a:off x="4114800" y="3505320"/>
            <a:ext cx="0" cy="22860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5105520" y="3505320"/>
            <a:ext cx="2057400" cy="22860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1219320" y="4952880"/>
            <a:ext cx="0" cy="60984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 flipV="1">
            <a:off x="1600200" y="4952880"/>
            <a:ext cx="0" cy="53352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0"/>
          <p:cNvSpPr/>
          <p:nvPr/>
        </p:nvSpPr>
        <p:spPr>
          <a:xfrm flipV="1">
            <a:off x="4495680" y="4952880"/>
            <a:ext cx="0" cy="53352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1"/>
          <p:cNvSpPr/>
          <p:nvPr/>
        </p:nvSpPr>
        <p:spPr>
          <a:xfrm>
            <a:off x="6934320" y="5029200"/>
            <a:ext cx="0" cy="60948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2"/>
          <p:cNvSpPr/>
          <p:nvPr/>
        </p:nvSpPr>
        <p:spPr>
          <a:xfrm flipV="1">
            <a:off x="7315200" y="5029200"/>
            <a:ext cx="0" cy="53352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3"/>
          <p:cNvSpPr/>
          <p:nvPr/>
        </p:nvSpPr>
        <p:spPr>
          <a:xfrm flipV="1">
            <a:off x="4495680" y="3504960"/>
            <a:ext cx="0" cy="22860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4"/>
          <p:cNvSpPr/>
          <p:nvPr/>
        </p:nvSpPr>
        <p:spPr>
          <a:xfrm>
            <a:off x="152280" y="3809880"/>
            <a:ext cx="2362320" cy="1067040"/>
          </a:xfrm>
          <a:prstGeom prst="ellipse">
            <a:avLst/>
          </a:prstGeom>
          <a:noFill/>
          <a:ln w="19080">
            <a:solidFill>
              <a:srgbClr val="c0504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5"/>
          <p:cNvSpPr/>
          <p:nvPr/>
        </p:nvSpPr>
        <p:spPr>
          <a:xfrm>
            <a:off x="2666880" y="3733920"/>
            <a:ext cx="3048120" cy="1143000"/>
          </a:xfrm>
          <a:prstGeom prst="ellipse">
            <a:avLst/>
          </a:prstGeom>
          <a:noFill/>
          <a:ln w="19080">
            <a:solidFill>
              <a:srgbClr val="c0504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6"/>
          <p:cNvSpPr/>
          <p:nvPr/>
        </p:nvSpPr>
        <p:spPr>
          <a:xfrm>
            <a:off x="5943600" y="3733920"/>
            <a:ext cx="2666880" cy="1143000"/>
          </a:xfrm>
          <a:prstGeom prst="ellipse">
            <a:avLst/>
          </a:prstGeom>
          <a:noFill/>
          <a:ln w="19080">
            <a:solidFill>
              <a:srgbClr val="c0504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990720" y="6858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ккреди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рганов по подтверждению соответствия и лабораторий  на международ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273" name="Object 5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Line 6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Object 18"/>
          <p:cNvGraphicFramePr/>
          <p:nvPr/>
        </p:nvGraphicFramePr>
        <p:xfrm>
          <a:off x="152280" y="1905120"/>
          <a:ext cx="510552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905120"/>
                    <a:ext cx="510552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1"/>
          <p:cNvGraphicFramePr/>
          <p:nvPr/>
        </p:nvGraphicFramePr>
        <p:xfrm>
          <a:off x="4114800" y="3505320"/>
          <a:ext cx="4724280" cy="31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505320"/>
                    <a:ext cx="47242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AutoShape 12"/>
          <p:cNvSpPr/>
          <p:nvPr/>
        </p:nvSpPr>
        <p:spPr>
          <a:xfrm>
            <a:off x="1828800" y="4952880"/>
            <a:ext cx="2286000" cy="1143000"/>
          </a:xfrm>
          <a:prstGeom prst="rightArrowCallout">
            <a:avLst>
              <a:gd name="adj1" fmla="val 25002"/>
              <a:gd name="adj2" fmla="val 25000"/>
              <a:gd name="adj3" fmla="val 3333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4572000" y="1905120"/>
            <a:ext cx="2438280" cy="1066680"/>
          </a:xfrm>
          <a:prstGeom prst="leftArrowCallout">
            <a:avLst>
              <a:gd name="adj1" fmla="val 25002"/>
              <a:gd name="adj2" fmla="val 25000"/>
              <a:gd name="adj3" fmla="val 38098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1828800" y="502920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сертификатов соответствия за рубеж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486400" y="20574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протоколов за рубеж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2133360"/>
            <a:ext cx="3695760" cy="4267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Создание сети лабораторий для вступления в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IL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200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   20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07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  20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6</a:t>
            </a:r>
            <a:r>
              <a:rPr b="1" i="1" lang="en-US" sz="2000" spc="-1" strike="noStrike">
                <a:solidFill>
                  <a:srgbClr val="c0504d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6</a:t>
            </a:r>
            <a:r>
              <a:rPr b="1" i="1" lang="en-US" sz="2000" spc="-1" strike="noStrike">
                <a:solidFill>
                  <a:srgbClr val="c0504d"/>
                </a:solidFill>
                <a:latin typeface="Calibri"/>
              </a:rPr>
              <a:t>           </a:t>
            </a: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 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ее количество: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914720" y="2057400"/>
            <a:ext cx="3695400" cy="4440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000"/>
                </a:solidFill>
                <a:latin typeface="Calibri"/>
              </a:rPr>
              <a:t>Создание сети органов по подтверждению  соответствия для вступления в </a:t>
            </a:r>
            <a:r>
              <a:rPr b="1" lang="en-US" sz="2400" spc="-1" strike="noStrike">
                <a:solidFill>
                  <a:srgbClr val="c20000"/>
                </a:solidFill>
                <a:latin typeface="Calibri"/>
              </a:rPr>
              <a:t>I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20000"/>
                </a:solidFill>
                <a:latin typeface="Calibri"/>
              </a:rPr>
              <a:t>2009         2010       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20000"/>
                </a:solidFill>
                <a:latin typeface="Calibri"/>
              </a:rPr>
              <a:t>     </a:t>
            </a:r>
            <a:r>
              <a:rPr b="1" i="1" lang="en-US" sz="2000" spc="-1" strike="noStrike">
                <a:solidFill>
                  <a:srgbClr val="c20000"/>
                </a:solidFill>
                <a:latin typeface="Calibri"/>
              </a:rPr>
              <a:t>3               3             </a:t>
            </a:r>
            <a:r>
              <a:rPr b="1" i="1" lang="ru-RU" sz="2000" spc="-1" strike="noStrike">
                <a:solidFill>
                  <a:srgbClr val="c2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c2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ее количество</a:t>
            </a:r>
            <a:r>
              <a:rPr b="1" lang="ru-RU" sz="2000" spc="-1" strike="noStrike">
                <a:solidFill>
                  <a:srgbClr val="c20000"/>
                </a:solidFill>
                <a:latin typeface="Calibri"/>
              </a:rPr>
              <a:t>: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90720" y="8380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Arial"/>
              </a:rPr>
              <a:t>Создание сети лабораторий и ОП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Arial"/>
              </a:rPr>
              <a:t>аккредитованных на международ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4500720" y="17733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5"/>
          <p:cNvGraphicFramePr/>
          <p:nvPr/>
        </p:nvGraphicFramePr>
        <p:xfrm>
          <a:off x="457200" y="380880"/>
          <a:ext cx="7621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7621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Прямоугольник 7"/>
          <p:cNvSpPr/>
          <p:nvPr/>
        </p:nvSpPr>
        <p:spPr>
          <a:xfrm>
            <a:off x="1074600" y="30492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7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298" name="Object 8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0" name="Line 9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0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4"/>
          <p:cNvSpPr/>
          <p:nvPr/>
        </p:nvSpPr>
        <p:spPr>
          <a:xfrm>
            <a:off x="114300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Tahoma"/>
              </a:rPr>
              <a:t>Этапы вступления НЦА в </a:t>
            </a:r>
            <a:r>
              <a:rPr b="0" lang="en-US" sz="2400" spc="-1" strike="noStrike">
                <a:solidFill>
                  <a:srgbClr val="e46c0a"/>
                </a:solidFill>
                <a:latin typeface="Tahoma"/>
              </a:rPr>
              <a:t>IL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380880" y="5638680"/>
            <a:ext cx="251460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000 г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– Аффилированный член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438280" y="4572000"/>
            <a:ext cx="25909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нварь 2007 г.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социированный член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3200400" y="3429000"/>
            <a:ext cx="35053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9-11 декабря 2008 год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редварительная оценка НЦА эксперта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TextBox 9"/>
          <p:cNvGrpSpPr/>
          <p:nvPr/>
        </p:nvGrpSpPr>
        <p:grpSpPr>
          <a:xfrm>
            <a:off x="4114800" y="2590920"/>
            <a:ext cx="3984120" cy="671400"/>
            <a:chOff x="4114800" y="2590920"/>
            <a:chExt cx="3984120" cy="671400"/>
          </a:xfrm>
        </p:grpSpPr>
        <p:pic>
          <p:nvPicPr>
            <p:cNvPr id="310" name="TextBox 9" descr=""/>
            <p:cNvPicPr/>
            <p:nvPr/>
          </p:nvPicPr>
          <p:blipFill>
            <a:blip r:embed="rId3"/>
            <a:stretch/>
          </p:blipFill>
          <p:spPr>
            <a:xfrm>
              <a:off x="4114800" y="2590920"/>
              <a:ext cx="3984120" cy="6714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11" name="Text Box 21"/>
            <p:cNvSpPr/>
            <p:nvPr/>
          </p:nvSpPr>
          <p:spPr>
            <a:xfrm>
              <a:off x="4127040" y="2603520"/>
              <a:ext cx="39560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00000"/>
                  </a:solidFill>
                  <a:latin typeface="Arial"/>
                </a:rPr>
                <a:t>2009 г. - Полная оценка НЦА</a:t>
              </a:r>
              <a:r>
                <a:rPr b="1" i="1" lang="en-US" sz="18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c00000"/>
                  </a:solidFill>
                  <a:latin typeface="Arial"/>
                </a:rPr>
                <a:t>экспертами </a:t>
              </a:r>
              <a:r>
                <a:rPr b="1" i="1" lang="en-US" sz="1800" spc="-1" strike="noStrike">
                  <a:solidFill>
                    <a:srgbClr val="c00000"/>
                  </a:solidFill>
                  <a:latin typeface="Arial"/>
                </a:rPr>
                <a:t>IL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Стрелка углом вверх 11"/>
          <p:cNvSpPr/>
          <p:nvPr/>
        </p:nvSpPr>
        <p:spPr>
          <a:xfrm>
            <a:off x="3048120" y="5562720"/>
            <a:ext cx="838080" cy="685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углом вверх 12"/>
          <p:cNvSpPr/>
          <p:nvPr/>
        </p:nvSpPr>
        <p:spPr>
          <a:xfrm>
            <a:off x="5181480" y="4419720"/>
            <a:ext cx="838440" cy="685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углом вверх 13"/>
          <p:cNvSpPr/>
          <p:nvPr/>
        </p:nvSpPr>
        <p:spPr>
          <a:xfrm>
            <a:off x="6858000" y="3352680"/>
            <a:ext cx="838080" cy="685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углом вверх 13"/>
          <p:cNvSpPr/>
          <p:nvPr/>
        </p:nvSpPr>
        <p:spPr>
          <a:xfrm>
            <a:off x="8229600" y="2438280"/>
            <a:ext cx="685800" cy="609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TextBox 9"/>
          <p:cNvGrpSpPr/>
          <p:nvPr/>
        </p:nvGrpSpPr>
        <p:grpSpPr>
          <a:xfrm>
            <a:off x="5791320" y="1676520"/>
            <a:ext cx="3146400" cy="671400"/>
            <a:chOff x="5791320" y="1676520"/>
            <a:chExt cx="3146400" cy="671400"/>
          </a:xfrm>
        </p:grpSpPr>
        <p:pic>
          <p:nvPicPr>
            <p:cNvPr id="317" name="TextBox 9" descr=""/>
            <p:cNvPicPr/>
            <p:nvPr/>
          </p:nvPicPr>
          <p:blipFill>
            <a:blip r:embed="rId4"/>
            <a:stretch/>
          </p:blipFill>
          <p:spPr>
            <a:xfrm>
              <a:off x="5791320" y="1676520"/>
              <a:ext cx="31464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28"/>
            <p:cNvSpPr/>
            <p:nvPr/>
          </p:nvSpPr>
          <p:spPr>
            <a:xfrm>
              <a:off x="5801040" y="1689120"/>
              <a:ext cx="3124080" cy="642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г. - Полноправное членство НЦА в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L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32"/>
          <p:cNvSpPr/>
          <p:nvPr/>
        </p:nvSpPr>
        <p:spPr>
          <a:xfrm>
            <a:off x="457200" y="3809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Этапы вступления в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5"/>
          <p:cNvSpPr/>
          <p:nvPr/>
        </p:nvSpPr>
        <p:spPr>
          <a:xfrm>
            <a:off x="380880" y="17524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Международная кооперация по аккредитации лабораторий (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ILAC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61 полные чл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20 ассоциированные член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19 афилированные чл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2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323" name="Object 3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Line 4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6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9"/>
          <p:cNvSpPr/>
          <p:nvPr/>
        </p:nvSpPr>
        <p:spPr>
          <a:xfrm>
            <a:off x="10666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Tahoma"/>
                <a:ea typeface="Tahoma"/>
              </a:rPr>
              <a:t>  </a:t>
            </a:r>
            <a:r>
              <a:rPr b="0" lang="ru-RU" sz="2400" spc="-1" strike="noStrike">
                <a:solidFill>
                  <a:srgbClr val="e46c0a"/>
                </a:solidFill>
                <a:latin typeface="Tahoma"/>
              </a:rPr>
              <a:t>Этапы вступления НЦА в </a:t>
            </a:r>
            <a:r>
              <a:rPr b="0" lang="en-US" sz="2400" spc="-1" strike="noStrike">
                <a:solidFill>
                  <a:srgbClr val="e46c0a"/>
                </a:solidFill>
                <a:latin typeface="Tahoma"/>
              </a:rPr>
              <a:t>I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228600" y="5943600"/>
            <a:ext cx="3733920" cy="61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2009 г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– Заявка НЦА в региональную организаци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AF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609480" y="5029200"/>
            <a:ext cx="4419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Январь 2009 г. – Подписание контракта о сотруднич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региональной организации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AF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 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TextBox 9"/>
          <p:cNvGrpSpPr/>
          <p:nvPr/>
        </p:nvGrpSpPr>
        <p:grpSpPr>
          <a:xfrm>
            <a:off x="3429000" y="3200400"/>
            <a:ext cx="3984120" cy="870480"/>
            <a:chOff x="3429000" y="3200400"/>
            <a:chExt cx="3984120" cy="870480"/>
          </a:xfrm>
        </p:grpSpPr>
        <p:pic>
          <p:nvPicPr>
            <p:cNvPr id="334" name="TextBox 9" descr=""/>
            <p:cNvPicPr/>
            <p:nvPr/>
          </p:nvPicPr>
          <p:blipFill>
            <a:blip r:embed="rId3"/>
            <a:stretch/>
          </p:blipFill>
          <p:spPr>
            <a:xfrm>
              <a:off x="3429000" y="3200400"/>
              <a:ext cx="398412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5"/>
            <p:cNvSpPr/>
            <p:nvPr/>
          </p:nvSpPr>
          <p:spPr>
            <a:xfrm>
              <a:off x="3441240" y="3215880"/>
              <a:ext cx="39560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2010 г. - Полная оценка НЦА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экспертами региональной организации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AF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Стрелка углом вверх 11"/>
          <p:cNvSpPr/>
          <p:nvPr/>
        </p:nvSpPr>
        <p:spPr>
          <a:xfrm>
            <a:off x="4191120" y="5943600"/>
            <a:ext cx="609480" cy="533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углом вверх 13"/>
          <p:cNvSpPr/>
          <p:nvPr/>
        </p:nvSpPr>
        <p:spPr>
          <a:xfrm>
            <a:off x="7467480" y="3124080"/>
            <a:ext cx="685800" cy="609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TextBox 9"/>
          <p:cNvGrpSpPr/>
          <p:nvPr/>
        </p:nvGrpSpPr>
        <p:grpSpPr>
          <a:xfrm>
            <a:off x="4572000" y="2286000"/>
            <a:ext cx="3603240" cy="839160"/>
            <a:chOff x="4572000" y="2286000"/>
            <a:chExt cx="3603240" cy="839160"/>
          </a:xfrm>
        </p:grpSpPr>
        <p:pic>
          <p:nvPicPr>
            <p:cNvPr id="339" name="TextBox 9" descr=""/>
            <p:cNvPicPr/>
            <p:nvPr/>
          </p:nvPicPr>
          <p:blipFill>
            <a:blip r:embed="rId4"/>
            <a:stretch/>
          </p:blipFill>
          <p:spPr>
            <a:xfrm>
              <a:off x="4572000" y="2286000"/>
              <a:ext cx="3603240" cy="8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2"/>
            <p:cNvSpPr/>
            <p:nvPr/>
          </p:nvSpPr>
          <p:spPr>
            <a:xfrm>
              <a:off x="4582800" y="2301120"/>
              <a:ext cx="35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1 г. - Полноправное членство НЦА в региональной организации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AF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24"/>
          <p:cNvSpPr/>
          <p:nvPr/>
        </p:nvSpPr>
        <p:spPr>
          <a:xfrm>
            <a:off x="457200" y="3429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Этапы вступления в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I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TextBox 9"/>
          <p:cNvGrpSpPr/>
          <p:nvPr/>
        </p:nvGrpSpPr>
        <p:grpSpPr>
          <a:xfrm>
            <a:off x="1905120" y="4114800"/>
            <a:ext cx="3961800" cy="855000"/>
            <a:chOff x="1905120" y="4114800"/>
            <a:chExt cx="3961800" cy="855000"/>
          </a:xfrm>
        </p:grpSpPr>
        <p:pic>
          <p:nvPicPr>
            <p:cNvPr id="343" name="TextBox 9" descr=""/>
            <p:cNvPicPr/>
            <p:nvPr/>
          </p:nvPicPr>
          <p:blipFill>
            <a:blip r:embed="rId5"/>
            <a:stretch/>
          </p:blipFill>
          <p:spPr>
            <a:xfrm>
              <a:off x="1905120" y="4114800"/>
              <a:ext cx="3961800" cy="6652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44" name="Text Box 27"/>
            <p:cNvSpPr/>
            <p:nvPr/>
          </p:nvSpPr>
          <p:spPr>
            <a:xfrm>
              <a:off x="1905120" y="4114800"/>
              <a:ext cx="393408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990000"/>
                  </a:solidFill>
                  <a:latin typeface="Arial"/>
                </a:rPr>
                <a:t>2009 г. – Предварительная оценка НЦА</a:t>
              </a:r>
              <a:r>
                <a:rPr b="1" i="1" lang="en-US" sz="16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990000"/>
                  </a:solidFill>
                  <a:latin typeface="Arial"/>
                </a:rPr>
                <a:t>экспертами региональной организации </a:t>
              </a:r>
              <a:r>
                <a:rPr b="1" i="1" lang="en-US" sz="1600" spc="-1" strike="noStrike">
                  <a:solidFill>
                    <a:srgbClr val="990000"/>
                  </a:solidFill>
                  <a:latin typeface="Arial"/>
                </a:rPr>
                <a:t>IAF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Стрелка углом вверх 11"/>
          <p:cNvSpPr/>
          <p:nvPr/>
        </p:nvSpPr>
        <p:spPr>
          <a:xfrm>
            <a:off x="5181480" y="5105520"/>
            <a:ext cx="609840" cy="533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углом вверх 11"/>
          <p:cNvSpPr/>
          <p:nvPr/>
        </p:nvSpPr>
        <p:spPr>
          <a:xfrm>
            <a:off x="6095880" y="4038480"/>
            <a:ext cx="609840" cy="533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TextBox 9"/>
          <p:cNvGrpSpPr/>
          <p:nvPr/>
        </p:nvGrpSpPr>
        <p:grpSpPr>
          <a:xfrm>
            <a:off x="5791320" y="1523880"/>
            <a:ext cx="3352320" cy="671400"/>
            <a:chOff x="5791320" y="1523880"/>
            <a:chExt cx="3352320" cy="671400"/>
          </a:xfrm>
        </p:grpSpPr>
        <p:pic>
          <p:nvPicPr>
            <p:cNvPr id="348" name="TextBox 9" descr=""/>
            <p:cNvPicPr/>
            <p:nvPr/>
          </p:nvPicPr>
          <p:blipFill>
            <a:blip r:embed="rId6"/>
            <a:stretch/>
          </p:blipFill>
          <p:spPr>
            <a:xfrm>
              <a:off x="5924160" y="1523880"/>
              <a:ext cx="32194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32"/>
            <p:cNvSpPr/>
            <p:nvPr/>
          </p:nvSpPr>
          <p:spPr>
            <a:xfrm>
              <a:off x="5791320" y="1523880"/>
              <a:ext cx="3196800" cy="5806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2 г. - Полноправное членство НЦА в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A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Стрелка углом вверх 13"/>
          <p:cNvSpPr/>
          <p:nvPr/>
        </p:nvSpPr>
        <p:spPr>
          <a:xfrm>
            <a:off x="8229600" y="2286000"/>
            <a:ext cx="685800" cy="609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31"/>
          <p:cNvSpPr/>
          <p:nvPr/>
        </p:nvSpPr>
        <p:spPr>
          <a:xfrm>
            <a:off x="380880" y="152388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Международный Форум по аккредитации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IAF</a:t>
            </a: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 - всемирная ассоциация органов по аккредитации в области оценки соответ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IAF </a:t>
            </a:r>
            <a:r>
              <a:rPr b="0" lang="ru-RU" sz="1600" spc="-1" strike="noStrike">
                <a:solidFill>
                  <a:srgbClr val="c0504d"/>
                </a:solidFill>
                <a:latin typeface="Arial"/>
              </a:rPr>
              <a:t>объединяет  56 национальных органов по аккредитации из 53 стр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57150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рмативно-правовая ос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Закон РК 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Об аккредитации в области оценки соответствия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 04 июля 2008 года №61-1</a:t>
            </a:r>
            <a:r>
              <a:rPr b="0" lang="en-US" sz="1800" spc="-1" strike="noStrike">
                <a:solidFill>
                  <a:srgbClr val="000066"/>
                </a:solidFill>
                <a:latin typeface="Baltica KK EK"/>
              </a:rPr>
              <a:t>V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 3 Р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Закон РК 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О техническом регулировании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 9 ноября 2004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№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603 - </a:t>
            </a:r>
            <a:r>
              <a:rPr b="0" lang="en-US" sz="1800" spc="-1" strike="noStrike">
                <a:solidFill>
                  <a:srgbClr val="000066"/>
                </a:solidFill>
                <a:latin typeface="Baltica KK EK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Закон РК 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Об обеспечении единства измерений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 7 июня 2000 года №53-I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Постановление Правительства РК 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Об определении органа по аккредитации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 2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7 августа 2008 года №773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СТ РК ИСО/МЭК 17011-2006 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Органы, осуществляющие оценку и аккредитацию органов по оценке соответствия. Основные требования</a:t>
            </a: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Международные документы </a:t>
            </a:r>
            <a:r>
              <a:rPr b="0" lang="en-US" sz="1800" spc="-1" strike="noStrike">
                <a:solidFill>
                  <a:srgbClr val="000066"/>
                </a:solidFill>
                <a:latin typeface="Baltica KK EK"/>
              </a:rPr>
              <a:t>ILAC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,</a:t>
            </a:r>
            <a:r>
              <a:rPr b="0" lang="en-US" sz="1800" spc="-1" strike="noStrike">
                <a:solidFill>
                  <a:srgbClr val="000066"/>
                </a:solidFill>
                <a:latin typeface="Baltica KK EK"/>
              </a:rPr>
              <a:t> IAF</a:t>
            </a:r>
            <a:r>
              <a:rPr b="0" lang="ru-RU" sz="1800" spc="-1" strike="noStrike">
                <a:solidFill>
                  <a:srgbClr val="000066"/>
                </a:solidFill>
                <a:latin typeface="Baltica KK EK"/>
              </a:rPr>
              <a:t>,</a:t>
            </a:r>
            <a:r>
              <a:rPr b="0" lang="en-US" sz="1800" spc="-1" strike="noStrike">
                <a:solidFill>
                  <a:srgbClr val="000066"/>
                </a:solidFill>
                <a:latin typeface="Baltica KK EK"/>
              </a:rPr>
              <a:t> 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2"/>
          <p:cNvGrpSpPr/>
          <p:nvPr/>
        </p:nvGrpSpPr>
        <p:grpSpPr>
          <a:xfrm>
            <a:off x="380880" y="304920"/>
            <a:ext cx="8534520" cy="6324480"/>
            <a:chOff x="380880" y="304920"/>
            <a:chExt cx="8534520" cy="6324480"/>
          </a:xfrm>
        </p:grpSpPr>
        <p:graphicFrame>
          <p:nvGraphicFramePr>
            <p:cNvPr id="62" name="Object 3"/>
            <p:cNvGraphicFramePr/>
            <p:nvPr/>
          </p:nvGraphicFramePr>
          <p:xfrm>
            <a:off x="533520" y="380880"/>
            <a:ext cx="91440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80880"/>
                      <a:ext cx="91440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Line 4"/>
            <p:cNvSpPr/>
            <p:nvPr/>
          </p:nvSpPr>
          <p:spPr>
            <a:xfrm>
              <a:off x="380880" y="304920"/>
              <a:ext cx="37339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"/>
            <p:cNvSpPr/>
            <p:nvPr/>
          </p:nvSpPr>
          <p:spPr>
            <a:xfrm>
              <a:off x="1295280" y="304920"/>
              <a:ext cx="32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>
              <a:off x="5181480" y="6629400"/>
              <a:ext cx="37339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"/>
            <p:cNvSpPr/>
            <p:nvPr/>
          </p:nvSpPr>
          <p:spPr>
            <a:xfrm>
              <a:off x="38088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891540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914400" y="1981080"/>
            <a:ext cx="7543800" cy="3810240"/>
          </a:xfrm>
          <a:prstGeom prst="cube">
            <a:avLst>
              <a:gd name="adj" fmla="val 3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дписаны соглашения о сотрудничестве с зарубежными национальными органами по аккреди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 Словацкая национальная аккредитационная служба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SNA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 Турецкое агентство по аккредитации 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URKAK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. Чешский институт по аккредитации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CAI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. Корейская структура по аккредитации лабораторий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KOLA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. Ассоциация аккредитованных лабораторий «Аналитика», Российская Феде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. Национальный орган по аккредитации Молдовы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CAEC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7. Польский орган по аккредитации (Р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8.  Аккредитационная служба Великобритании (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UKAS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7621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труд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 зарубежными органами по аккред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356" name="Object 6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Line 7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2666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Tahoma"/>
              </a:rPr>
              <a:t>www.nca.k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304920" y="304920"/>
            <a:ext cx="8534160" cy="6324480"/>
            <a:chOff x="304920" y="304920"/>
            <a:chExt cx="8534160" cy="6324480"/>
          </a:xfrm>
        </p:grpSpPr>
        <p:graphicFrame>
          <p:nvGraphicFramePr>
            <p:cNvPr id="366" name="Object 4"/>
            <p:cNvGraphicFramePr/>
            <p:nvPr/>
          </p:nvGraphicFramePr>
          <p:xfrm>
            <a:off x="457200" y="380880"/>
            <a:ext cx="76140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76140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Line 5"/>
            <p:cNvSpPr/>
            <p:nvPr/>
          </p:nvSpPr>
          <p:spPr>
            <a:xfrm>
              <a:off x="304920" y="30492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1218960" y="30492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c0504d"/>
                  </a:solidFill>
                  <a:latin typeface="Arial"/>
                </a:rPr>
                <a:t>Национальный центр аккреди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7"/>
            <p:cNvSpPr/>
            <p:nvPr/>
          </p:nvSpPr>
          <p:spPr>
            <a:xfrm>
              <a:off x="5105160" y="6629400"/>
              <a:ext cx="373356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8"/>
            <p:cNvSpPr/>
            <p:nvPr/>
          </p:nvSpPr>
          <p:spPr>
            <a:xfrm>
              <a:off x="304920" y="304920"/>
              <a:ext cx="0" cy="259056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9"/>
            <p:cNvSpPr/>
            <p:nvPr/>
          </p:nvSpPr>
          <p:spPr>
            <a:xfrm>
              <a:off x="8839080" y="3505320"/>
              <a:ext cx="0" cy="3124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8"/>
          <p:cNvSpPr/>
          <p:nvPr/>
        </p:nvSpPr>
        <p:spPr>
          <a:xfrm>
            <a:off x="1908000" y="2205000"/>
            <a:ext cx="5904000" cy="1728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щенациональный план основных направлений (мероприятий) по реализации ежегодных 2005-2007 годов посланий Главы Государства народу Казахстана (п. 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1908000" y="4221000"/>
            <a:ext cx="5977080" cy="15116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лан законопроектных работ Правительства 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 2007 год (п. 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1676520" y="762120"/>
            <a:ext cx="72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кон разработан и прин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 осн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609480" y="457200"/>
          <a:ext cx="914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914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Прямоугольник 7"/>
          <p:cNvSpPr/>
          <p:nvPr/>
        </p:nvSpPr>
        <p:spPr>
          <a:xfrm>
            <a:off x="1531800" y="30492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2843280" y="2133720"/>
            <a:ext cx="936720" cy="3311280"/>
          </a:xfrm>
          <a:custGeom>
            <a:avLst/>
            <a:gdLst>
              <a:gd name="textAreaLeft" fmla="*/ 598680 w 936720"/>
              <a:gd name="textAreaRight" fmla="*/ 937080 w 93672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505320" y="685800"/>
            <a:ext cx="5113080" cy="2448000"/>
          </a:xfrm>
          <a:prstGeom prst="rect">
            <a:avLst/>
          </a:prstGeom>
          <a:solidFill>
            <a:srgbClr val="ffffcc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Цель принят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здание условий признания казахстанских сертификатов и протоколов испытаний международными организациями и зарубежными стран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0" y="1828800"/>
            <a:ext cx="3097080" cy="31669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4000" y="242100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Об аккредитации в области оценки соответствия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2895480" y="1523880"/>
            <a:ext cx="576360" cy="381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05320" y="3581280"/>
            <a:ext cx="5113080" cy="2808360"/>
          </a:xfrm>
          <a:prstGeom prst="rect">
            <a:avLst/>
          </a:prstGeom>
          <a:solidFill>
            <a:srgbClr val="ffffcc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правлен на решение следующих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 создание соответствующей международным требованиям системы аккредитации в области оценки соответ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 создание независимого органа по аккреди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) вступление в международные и региональные организации в области аккреди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609480" y="457200"/>
          <a:ext cx="914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914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Прямоугольник 9"/>
          <p:cNvSpPr/>
          <p:nvPr/>
        </p:nvSpPr>
        <p:spPr>
          <a:xfrm>
            <a:off x="1455480" y="38088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отношения, 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регулируемые Зако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2973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rmAutofit/>
          </a:bodyPr>
          <a:p>
            <a:pPr marL="176040" indent="180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тношения по аккредитации испытательных, калибровочных, поверочных лабораторий, органов по подтверждению соответствия продукции, систем менеджмента, персонала и юридических лиц, осуществляющих метрологическую аттестацию методик выполнения измерений, возникающие между последними и органом по аккреди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18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тношения между органом по аккредитации и уполномоченным орга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457200" y="685800"/>
          <a:ext cx="914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914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Прямоугольник 5"/>
          <p:cNvSpPr/>
          <p:nvPr/>
        </p:nvSpPr>
        <p:spPr>
          <a:xfrm>
            <a:off x="1226880" y="38088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4572000" y="227664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989440" y="3357720"/>
            <a:ext cx="33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30400" y="4863960"/>
            <a:ext cx="6537240" cy="5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643040" y="5357880"/>
            <a:ext cx="1428840" cy="863640"/>
          </a:xfrm>
          <a:prstGeom prst="roundRect">
            <a:avLst>
              <a:gd name="adj" fmla="val 185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иброво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429080" y="5357880"/>
            <a:ext cx="1728720" cy="86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ы по подтверждению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1136520" y="487044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5286240" y="485784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3714840" y="485784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7667640" y="486900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743200" y="1828800"/>
            <a:ext cx="3673440" cy="5335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рав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2819520" y="2590920"/>
            <a:ext cx="3673440" cy="459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Уполномоченный орган по техническому регулир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4"/>
          <p:cNvGrpSpPr/>
          <p:nvPr/>
        </p:nvGrpSpPr>
        <p:grpSpPr>
          <a:xfrm>
            <a:off x="142920" y="5357880"/>
            <a:ext cx="1428480" cy="863640"/>
            <a:chOff x="142920" y="5357880"/>
            <a:chExt cx="1428480" cy="863640"/>
          </a:xfrm>
        </p:grpSpPr>
        <p:sp>
          <p:nvSpPr>
            <p:cNvPr id="102" name="AutoShape 25"/>
            <p:cNvSpPr/>
            <p:nvPr/>
          </p:nvSpPr>
          <p:spPr>
            <a:xfrm>
              <a:off x="142920" y="5357880"/>
              <a:ext cx="1428480" cy="731880"/>
            </a:xfrm>
            <a:prstGeom prst="roundRect">
              <a:avLst>
                <a:gd name="adj" fmla="val 185"/>
              </a:avLst>
            </a:prstGeom>
            <a:solidFill>
              <a:srgbClr val="d29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6"/>
            <p:cNvSpPr/>
            <p:nvPr/>
          </p:nvSpPr>
          <p:spPr>
            <a:xfrm>
              <a:off x="142920" y="5357880"/>
              <a:ext cx="1428480" cy="863640"/>
            </a:xfrm>
            <a:prstGeom prst="rect">
              <a:avLst/>
            </a:prstGeom>
            <a:solidFill>
              <a:srgbClr val="db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41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спытательные лаборатор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3"/>
          <p:cNvSpPr/>
          <p:nvPr/>
        </p:nvSpPr>
        <p:spPr>
          <a:xfrm>
            <a:off x="2209680" y="533520"/>
            <a:ext cx="661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труктура системы аккреди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>
            <a:off x="4500720" y="443700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819520" y="3962520"/>
            <a:ext cx="3527280" cy="1008000"/>
          </a:xfrm>
          <a:prstGeom prst="roundRect">
            <a:avLst>
              <a:gd name="adj" fmla="val 296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ПО АККРЕДИ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0"/>
          <p:cNvSpPr/>
          <p:nvPr/>
        </p:nvSpPr>
        <p:spPr>
          <a:xfrm>
            <a:off x="3143160" y="5357880"/>
            <a:ext cx="1214640" cy="863640"/>
          </a:xfrm>
          <a:prstGeom prst="roundRect">
            <a:avLst>
              <a:gd name="adj" fmla="val 185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очные лабора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609480" y="4267080"/>
            <a:ext cx="1800360" cy="648000"/>
          </a:xfrm>
          <a:prstGeom prst="roundRect">
            <a:avLst>
              <a:gd name="adj" fmla="val 296"/>
            </a:avLst>
          </a:prstGeom>
          <a:solidFill>
            <a:srgbClr val="fcd5b5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ис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аккреди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3"/>
          <p:cNvSpPr/>
          <p:nvPr/>
        </p:nvSpPr>
        <p:spPr>
          <a:xfrm>
            <a:off x="2484360" y="4076640"/>
            <a:ext cx="36036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4114800" y="3276720"/>
            <a:ext cx="86508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781680" y="4267080"/>
            <a:ext cx="1800360" cy="648000"/>
          </a:xfrm>
          <a:prstGeom prst="roundRect">
            <a:avLst>
              <a:gd name="adj" fmla="val 296"/>
            </a:avLst>
          </a:prstGeom>
          <a:solidFill>
            <a:srgbClr val="fcd5b5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ис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апелля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6357960" y="4071960"/>
            <a:ext cx="36036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6286680" y="5357880"/>
            <a:ext cx="2714400" cy="86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дические лица, осуществляющие метрологическую аттестацию методик выполнения измер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357280" y="485784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80880" y="533520"/>
          <a:ext cx="914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914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Прямоугольник 28"/>
          <p:cNvSpPr/>
          <p:nvPr/>
        </p:nvSpPr>
        <p:spPr>
          <a:xfrm>
            <a:off x="1303200" y="30492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697800" y="283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3581280"/>
            <a:ext cx="2521080" cy="14036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Определение Органа по аккредитации - НЦА 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ПП РК 773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27 августа 2008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8120" y="2819520"/>
            <a:ext cx="2808000" cy="31114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еречень нормативных правовых актов, принятие которых необходимо в целях реализации ЗР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(Распоряжение Премьер-Министра РК от 14 августа 2008 года №210 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" y="1676520"/>
            <a:ext cx="2376360" cy="58068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ок аккредитации увеличен до 5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048120" y="1676520"/>
            <a:ext cx="2808000" cy="58068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пекционные проверки - 1 раз в 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019920" y="1676520"/>
            <a:ext cx="2971800" cy="58068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имеет силу прям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33720" y="2362320"/>
            <a:ext cx="541008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Меры по реализации Зак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012000" y="2743200"/>
            <a:ext cx="2952720" cy="55080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авила ведения электронного учета данных о зарегистрированных декларациях о соответствии и т.д. (№ 428 от 29.10.2008 г.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012000" y="3463920"/>
            <a:ext cx="2952720" cy="85536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ъем испытаний объектов области аккредитации, подлежащий обеспечению испытательной лабораторией органа по подтверждению соответствия (№ 427 от 29.10.2008 г.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012000" y="4471920"/>
            <a:ext cx="2952720" cy="39852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авила регистрации заявлений-деклараций (№ 429 от 29.10.2008 г.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012000" y="5048280"/>
            <a:ext cx="2952720" cy="855360"/>
          </a:xfrm>
          <a:prstGeom prst="rect">
            <a:avLst/>
          </a:prstGeom>
          <a:solidFill>
            <a:srgbClr val="fdeada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ормы документов аккредитации в области оценки соответствия и типовые формы предаккредитационного и постаккредитационного договоров (№ 430 от 29.10.2008 г.).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05120" y="685800"/>
            <a:ext cx="66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5 июля 2008 года принят Закон Р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«Об аккредитации в области оценки соответ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304920" y="6019920"/>
            <a:ext cx="8686800" cy="338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533520" y="380880"/>
          <a:ext cx="9144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9144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Прямоугольник 16"/>
          <p:cNvSpPr/>
          <p:nvPr/>
        </p:nvSpPr>
        <p:spPr>
          <a:xfrm>
            <a:off x="1455480" y="30492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 Зак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, цели, принципы аккредитации (статьи 1-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Система аккредитации и ее участники (статьи 4-1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Знак аккредитации. Порядок проведения работ по аккредитации (12-25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Отзыв, прекращение действия, аннулирование, приостановление, лишение аттестата аккредитации. Разрешение споров участников (статья 26-2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Признание результатов аккредитации (статьи 2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Ответственность участников аккредитации (статья 29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Государственный контроль в области аккредитации (статья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Заключительные и переходные положения (статьи 3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457200" y="380880"/>
          <a:ext cx="9144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9144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Прямоугольник 5"/>
          <p:cNvSpPr/>
          <p:nvPr/>
        </p:nvSpPr>
        <p:spPr>
          <a:xfrm>
            <a:off x="1150920" y="22860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6553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Новеллы Зак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Аккредитация в области оценки соответствия из разряда разрешительных процедур переведена в разряд добровольных, где отношения между органом по аккредитации и субъектами аккредитации выстраиваются на основе договора как между двумя равноправными сторо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Детально раскрыта процедура аккредитации, что обеспечивает ее прозра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Увеличен срок действия аттестата аккредитации с прежних трех до пяти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Полностью исключены плановые государственные проверки субъектов аккреди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303200" y="38088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Национальный центр аккреди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457200" y="380880"/>
          <a:ext cx="9144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9144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14T05:51:3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